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EC6-E103-4FCA-BC35-18D8BBDB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EEF5-DD4C-433B-AF9E-DB541EA7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918D-D52F-4175-AC11-FD6DDF8A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856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3992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856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3992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8735-5097-496B-8AF1-2D348B50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9DA9-488E-4912-94C2-B3E9EAB5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C41B-305D-4327-9D40-48C92AE7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D727-4048-4C06-AFCC-D2F8CF7A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8263-2F6C-4F18-9104-2C9BD1F4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BBDF-03EF-4E2B-97E5-879EA224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1460-18ED-4DBD-8EB9-57B82533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16B8-C0ED-45FC-8925-28C86E3E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82E6-DFF2-4B49-B764-84AABFBF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CBCE-5295-49CF-A31C-9AB93A19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9BE4-B42D-49D6-BB35-4CD9770B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D44C-1548-4A41-B343-DFDDC1C1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BBC4-7F05-49D3-A66B-590596E7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9856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992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69856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3992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AAF2-BA5F-4B10-A2BD-D8C69129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F31E-50CE-4AFE-B54C-E943CEA1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A8C6-4FA2-49F4-8DE0-3E8FEAA4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E3AC-F2DF-4530-9C02-7068C174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F29D-88DD-4750-9AF8-EA95A64F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13C6-FFDB-4F13-8A6C-3E594AA1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9C6E-BA82-4FE9-9313-4A2B8A43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E461-217D-4107-8884-EB238ACC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04004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5584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33F4-597B-4F56-A365-BF88207668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16A7-537D-4F1D-8FE7-859AFB240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hipple-tsaw.wikispaces.com/" TargetMode="External"/><Relationship Id="rId3" Type="http://schemas.openxmlformats.org/officeDocument/2006/relationships/hyperlink" Target="http://whipple-tsaw.wikispaces.com/" TargetMode="External"/><Relationship Id="rId4" Type="http://schemas.openxmlformats.org/officeDocument/2006/relationships/hyperlink" Target="http://whipple-tsaw.wikispaces.com/" TargetMode="External"/><Relationship Id="rId5" Type="http://schemas.openxmlformats.org/officeDocument/2006/relationships/hyperlink" Target="http://whipple-tsaw.wikispaces.com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1d1cb"/>
                </a:solidFill>
                <a:latin typeface="Century Gothic"/>
              </a:rPr>
              <a:t>Web 2.0</a:t>
            </a:r>
            <a:endParaRPr b="0" lang="en-US" sz="60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160" y="380988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Ten (not-so) Secrets about Wikispac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52280"/>
            <a:ext cx="228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Laptop Instit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Memphis, TN, U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July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5334120"/>
            <a:ext cx="3276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Jeff Whip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Technology Men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School District 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Fredericton, New Brunswi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Can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152280"/>
            <a:ext cx="441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Literacy &amp; Learning 21st Century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Fredericton, N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August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ik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wiki wiki”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- Hawaiian for “fast”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-133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Backronym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W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hat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I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K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now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I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s”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-133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Wikipedi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0734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ik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Website – allows visitors or members to add, remove, edit cont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Ease of use, like using MS Word docu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ree levels of participation (edit, edit with moderation, read-only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ext, images, videos, link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Home / School communica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lass websites (information, links, etc.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eacher generated not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inks to resour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llaborative project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ollaborative student note keep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Group project management / host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udent Centered Activiti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udent writing / edit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llaborative ability to edit is key featu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orkshop Wik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971800"/>
            <a:ext cx="76197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2"/>
              </a:rPr>
              <a:t>whipple-tsaw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3"/>
              </a:rPr>
              <a:t>.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4"/>
              </a:rPr>
              <a:t>wikispaces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5"/>
              </a:rPr>
              <a:t>.co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7080" y="5176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21st century Digital Literacy…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600228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7080" y="5176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21st century Digital Literacy…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828800" y="1752480"/>
            <a:ext cx="569736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7080" y="5176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21st century Digital Literacy…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828800" y="1752480"/>
            <a:ext cx="56386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In the beginning…Web 1.0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First generation web servic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Special skills and tools required for web autho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ost individuals limited to being consumers of web-based inform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hat is Web 2.0?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662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Web 2.0 – second generation of web-based servic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Web based authoring tools readily availabl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Everyone can be an                    author / producer of                 information – limited                     skill require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257800" y="3886200"/>
            <a:ext cx="37339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d1cb"/>
                </a:solidFill>
                <a:latin typeface="Century Gothic"/>
              </a:rPr>
              <a:t>Web 2.0 – as a learning tool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any educational benefits to    web 2.0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Authentic student authorship, collaboration and sha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Blogs, wikis and podcasts most popular tools for educ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d1cb"/>
                </a:solidFill>
                <a:latin typeface="Century Gothic"/>
              </a:rPr>
              <a:t>Web 2.0 – as a learning tool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Web-based      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No special software needed!!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Anytime…anywhere!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5120" y="2971440"/>
            <a:ext cx="487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Century Gothic"/>
              </a:rPr>
              <a:t>Wikis</a:t>
            </a:r>
            <a:endParaRPr b="0" lang="en-US" sz="12900" spc="-1" strike="noStrike">
              <a:solidFill>
                <a:srgbClr val="d1d1c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4:33:08Z</dcterms:created>
  <dc:creator>jeff.whipple</dc:creator>
  <dc:description/>
  <cp:keywords/>
  <dc:language>en-US</dc:language>
  <cp:lastModifiedBy>nbdoe</cp:lastModifiedBy>
  <cp:lastPrinted>2009-04-22T19:24:48Z</cp:lastPrinted>
  <dcterms:modified xsi:type="dcterms:W3CDTF">2007-10-18T17:39:02Z</dcterms:modified>
  <cp:revision>15</cp:revision>
  <dc:subject/>
  <dc:title>Web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51033</vt:lpwstr>
  </property>
</Properties>
</file>