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5B83-B1D6-4E1A-9891-D06BDA4F5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66294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891240"/>
            <a:ext cx="66294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9780-56C7-4155-9643-C7D2E1DB3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53800" y="144756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89124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53800" y="389124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2104-A118-4BBA-BF90-3B6CA3E37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1344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8560" y="1447560"/>
            <a:ext cx="21344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39920" y="1447560"/>
            <a:ext cx="21344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891240"/>
            <a:ext cx="21344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8560" y="3891240"/>
            <a:ext cx="21344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39920" y="3891240"/>
            <a:ext cx="21344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0965-4EA6-4FA8-8EF4-438760C4D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84EC6-A67C-441B-A6EB-E486C191B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447560"/>
            <a:ext cx="66294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DD7C2-E58B-46AE-AC65-2A3676E5C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66294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FB08F-4B76-4FE1-A907-79FDCBFAD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23496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53800" y="1447560"/>
            <a:ext cx="323496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901AF-4086-47B2-A57B-AB89B6654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E9394-FDFE-4FCC-8C24-869ED03B0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BB0BF-2930-4957-89AE-4FC25FE6C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853800" y="1447560"/>
            <a:ext cx="323496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89124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7E815-AE6E-4758-A870-7EF93CDB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447560"/>
            <a:ext cx="66294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8940-8CE0-4D14-987E-8BA182F72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23496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853800" y="144756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53800" y="389124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0196C-86E8-4795-9FAA-D2D9152F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853800" y="144756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891240"/>
            <a:ext cx="66294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E6D49-F849-4908-B448-7694A4F7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66294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891240"/>
            <a:ext cx="66294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CDBFD-1E72-45FC-8644-1C036F637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53800" y="144756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89124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853800" y="389124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CA979-AB49-4A9C-BB0A-25CAB2AD7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1344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698560" y="1447560"/>
            <a:ext cx="21344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39920" y="1447560"/>
            <a:ext cx="21344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891240"/>
            <a:ext cx="21344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698560" y="3891240"/>
            <a:ext cx="21344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939920" y="3891240"/>
            <a:ext cx="21344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28C45-1A58-4574-B503-31791E983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66294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EC77-E901-4DA9-B330-F953CFFE9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23496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53800" y="1447560"/>
            <a:ext cx="323496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89AF-574E-4A89-AE51-039CB3083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F4CE-CEDF-46A4-850D-6E4B997B9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1783-FC23-4EA7-B933-77B2FB459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53800" y="1447560"/>
            <a:ext cx="323496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89124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D9F2-8BBA-48D7-AF79-BFE21921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23496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53800" y="144756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53800" y="389124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5D7C-E3B3-452D-AD6F-DCD5E6FD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53800" y="1447560"/>
            <a:ext cx="323496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891240"/>
            <a:ext cx="66294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51D5-E932-4FBB-B4F0-65603FDB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560"/>
            <a:ext cx="66294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676080" indent="-25992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040040" indent="-20772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55840" indent="-20772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872000" indent="-20772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872000" indent="-20772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872000" indent="-20772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C753D-609F-4437-9395-ED2FBD970D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0F470-7AE4-4067-AAD3-A78AE04495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entury Gothi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hipple-tsaw.wikispaces.com/" TargetMode="External"/><Relationship Id="rId3" Type="http://schemas.openxmlformats.org/officeDocument/2006/relationships/hyperlink" Target="http://whipple-tsaw.wikispaces.com/" TargetMode="External"/><Relationship Id="rId4" Type="http://schemas.openxmlformats.org/officeDocument/2006/relationships/hyperlink" Target="http://whipple-tsaw.wikispaces.com/" TargetMode="External"/><Relationship Id="rId5" Type="http://schemas.openxmlformats.org/officeDocument/2006/relationships/hyperlink" Target="http://whipple-tsaw.wikispaces.com/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1d1cb"/>
                </a:solidFill>
                <a:latin typeface="Century Gothic"/>
              </a:rPr>
              <a:t>Web 2.0</a:t>
            </a:r>
            <a:endParaRPr b="0" lang="en-US" sz="60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33160" y="3809880"/>
            <a:ext cx="83055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Ten (not-so) Secrets about Wikispace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152280"/>
            <a:ext cx="2286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Laptop Institu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Memphis, TN, US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July 200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5334120"/>
            <a:ext cx="3276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  <a:ea typeface="ＭＳ Ｐゴシック"/>
              </a:rPr>
              <a:t>Jeff Whip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  <a:ea typeface="ＭＳ Ｐゴシック"/>
              </a:rPr>
              <a:t>Technology Men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  <a:ea typeface="ＭＳ Ｐゴシック"/>
              </a:rPr>
              <a:t>School District 1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  <a:ea typeface="ＭＳ Ｐゴシック"/>
              </a:rPr>
              <a:t>Fredericton, New Brunswic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  <a:ea typeface="ＭＳ Ｐゴシック"/>
              </a:rPr>
              <a:t>Canad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48120" y="152280"/>
            <a:ext cx="4419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Literacy &amp; Learning 21st Century 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Fredericton, N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August 200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Wiki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6629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marL="133560" indent="-13356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1" i="1" lang="en-US" sz="4400" spc="-1" strike="noStrike">
                <a:solidFill>
                  <a:srgbClr val="ffffff"/>
                </a:solidFill>
                <a:latin typeface="Century Gothic"/>
              </a:rPr>
              <a:t>wiki wiki”</a:t>
            </a: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 - Hawaiian for “fast”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133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133560" indent="-1335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Backronym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133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1" lang="en-US" sz="3600" spc="-1" strike="noStrike">
                <a:solidFill>
                  <a:srgbClr val="ffcc66"/>
                </a:solidFill>
                <a:latin typeface="Century Gothic"/>
              </a:rPr>
              <a:t>W</a:t>
            </a: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hat </a:t>
            </a:r>
            <a:r>
              <a:rPr b="1" lang="en-US" sz="3600" spc="-1" strike="noStrike">
                <a:solidFill>
                  <a:srgbClr val="ffcc66"/>
                </a:solidFill>
                <a:latin typeface="Century Gothic"/>
              </a:rPr>
              <a:t>I</a:t>
            </a: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3600" spc="-1" strike="noStrike">
                <a:solidFill>
                  <a:srgbClr val="ffcc66"/>
                </a:solidFill>
                <a:latin typeface="Century Gothic"/>
              </a:rPr>
              <a:t>K</a:t>
            </a: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now </a:t>
            </a:r>
            <a:r>
              <a:rPr b="1" lang="en-US" sz="3600" spc="-1" strike="noStrike">
                <a:solidFill>
                  <a:srgbClr val="ffcc66"/>
                </a:solidFill>
                <a:latin typeface="Century Gothic"/>
              </a:rPr>
              <a:t>I</a:t>
            </a: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s”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133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133560" indent="-1335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Wikipedia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572000" y="2209680"/>
            <a:ext cx="40734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Wiki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6858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Website – allows visitors or members to add, remove, edit conten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-294840"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Ease of use, like using MS Word documen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-294840"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Three levels of participation (edit, edit with moderation, read-only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-294840"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Text, images, videos, link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Uses for Wiki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7086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Home / School communicatio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Class websites (information, links, etc.)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Teacher generated not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Links to resourc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Uses for Wiki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7239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Collaborative project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Collaborative student note keepi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Group project management / hosti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Student Centered Activitie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Student writing / editi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Collaborative ability to edit is key featur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Workshop Wiki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2971800"/>
            <a:ext cx="76197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Century Gothic"/>
                <a:hlinkClick r:id="rId2"/>
              </a:rPr>
              <a:t>whipple-tsaw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Century Gothic"/>
                <a:hlinkClick r:id="rId3"/>
              </a:rPr>
              <a:t>.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Century Gothic"/>
                <a:hlinkClick r:id="rId4"/>
              </a:rPr>
              <a:t>wikispaces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Century Gothic"/>
                <a:hlinkClick r:id="rId5"/>
              </a:rPr>
              <a:t>.com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17080" y="51768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21st century Digital Literacy…?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600200" y="1828800"/>
            <a:ext cx="6002280" cy="38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17080" y="51768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21st century Digital Literacy…?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828800" y="1752480"/>
            <a:ext cx="5697360" cy="40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17080" y="51768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21st century Digital Literacy…?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828800" y="1752480"/>
            <a:ext cx="563868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In the beginning…Web 1.0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66294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First generation web service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-294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Special skills and tools required for web autho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-294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Most individuals limited to being consumers of web-based informatio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d1cb"/>
                </a:solidFill>
                <a:latin typeface="Century Gothic"/>
              </a:rPr>
              <a:t>What is Web 2.0?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662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Web 2.0 – second generation of web-based service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Web based authoring tools readily availabl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Everyone can be an                    author / producer of                 information – limited                     skill required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257800" y="3886200"/>
            <a:ext cx="373392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d1cb"/>
                </a:solidFill>
                <a:latin typeface="Century Gothic"/>
              </a:rPr>
              <a:t>Web 2.0 – as a learning tool</a:t>
            </a:r>
            <a:endParaRPr b="0" lang="en-US" sz="36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Many educational benefits to    web 2.0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-294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Authentic student authorship, collaboration and sha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-294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Blogs, wikis and podcasts most popular tools for educatio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d1cb"/>
                </a:solidFill>
                <a:latin typeface="Century Gothic"/>
              </a:rPr>
              <a:t>Web 2.0 – as a learning tool</a:t>
            </a:r>
            <a:endParaRPr b="0" lang="en-US" sz="36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Web-based       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entury Gothic"/>
              </a:rPr>
              <a:t>No special software needed!!</a:t>
            </a:r>
            <a:endParaRPr b="0" lang="en-US" sz="60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Anytime…anywhere!</a:t>
            </a: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5120" y="2971440"/>
            <a:ext cx="4876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ffffff"/>
                </a:solidFill>
                <a:latin typeface="Century Gothic"/>
              </a:rPr>
              <a:t>Wikis</a:t>
            </a:r>
            <a:endParaRPr b="0" lang="en-US" sz="12900" spc="-1" strike="noStrike">
              <a:solidFill>
                <a:srgbClr val="d1d1cb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14:33:08Z</dcterms:created>
  <dc:creator>jeff.whipple</dc:creator>
  <dc:description/>
  <cp:keywords/>
  <dc:language>en-US</dc:language>
  <cp:lastModifiedBy>nbdoe</cp:lastModifiedBy>
  <cp:lastPrinted>2009-04-22T19:24:48Z</cp:lastPrinted>
  <dcterms:modified xsi:type="dcterms:W3CDTF">2007-10-18T17:39:02Z</dcterms:modified>
  <cp:revision>15</cp:revision>
  <dc:subject/>
  <dc:title>Web 2.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2951033</vt:lpwstr>
  </property>
</Properties>
</file>