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026-2A0B-4192-82C2-CE446FC9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771-6AAE-47EB-A0C8-82C8B29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A65-C603-4864-9F52-F1DD992A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D12-D6FD-4FF5-A30E-F07C6E8E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07CF-D358-43CD-9BEA-76A36F47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255-CA71-4DA1-8CFA-2C80836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3C3-BBD4-4C3B-95DA-0688E5A5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745-7DA3-4D9C-8D8D-4EC52440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999E-F200-4E92-B87D-097EE547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4686-F323-46BD-830D-484C9244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FEF8-9B0C-4717-AF45-74C38BE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A0A-1EC4-488F-AA01-2C67290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5A8-6E86-4E8E-8CF4-A6985ED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FCD-7B90-4F1A-8A5A-1ACD4EC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32C5-AD0E-4205-82F2-03C3605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762F-CDA9-49DE-8FEC-FBE40B04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3624-2E9B-4187-A17B-19AAFBE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002-7F1C-47B9-A763-77688E43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733-BA9B-43D5-A54D-18345D1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4F1-DDDF-4BE7-8C8E-C44E4458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D58-50F7-464C-BC1C-C74DD33D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239-2124-48CD-A4DC-450465A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7D6-A04F-49CE-9142-653A205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582-C5C2-4D74-A20E-0120F7F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749A-8A11-4E37-A7A6-0D5F73587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C73A-36BA-4FE6-B195-62A335179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pple-tsaw.wikispaces.com/" TargetMode="External"/><Relationship Id="rId3" Type="http://schemas.openxmlformats.org/officeDocument/2006/relationships/hyperlink" Target="http://whipple-tsaw.wikispaces.com/" TargetMode="External"/><Relationship Id="rId4" Type="http://schemas.openxmlformats.org/officeDocument/2006/relationships/hyperlink" Target="http://whipple-tsaw.wikispaces.com/" TargetMode="External"/><Relationship Id="rId5" Type="http://schemas.openxmlformats.org/officeDocument/2006/relationships/hyperlink" Target="http://whipple-tsaw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n (not-so) Secrets about Wikispa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ptop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emphis, TN, 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l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Jeff Wh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Technology Men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School District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Fredericton, New Brunsw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28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teracy &amp; Learning 21st Century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redericton, 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ugust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orkshop 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whipple-tsaw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wikispace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022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97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ny educational benefits to    web 2.0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uthentic student authorship, collaboration and sha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s, wikis and podcasts most popular tools for educ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2971440"/>
            <a:ext cx="487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33:08Z</dcterms:created>
  <dc:creator>jeff.whipple</dc:creator>
  <dc:description/>
  <cp:keywords/>
  <dc:language>en-US</dc:language>
  <cp:lastModifiedBy>nbdoe</cp:lastModifiedBy>
  <cp:lastPrinted>2009-04-22T19:24:48Z</cp:lastPrinted>
  <dcterms:modified xsi:type="dcterms:W3CDTF">2007-10-18T17:39:02Z</dcterms:modified>
  <cp:revision>15</cp:revision>
  <dc:subject/>
  <dc:title>Web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