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F12-1554-4BE6-8769-1EA14385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C38-369B-4568-BC26-D612E3D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69C-96F9-4332-A470-A779F670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956-1EC1-4C92-892B-3CD10E27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E409-C0B7-4D17-91EE-CD660474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86CC-A031-44EE-9E5A-3A87EB24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6307-A0DE-4691-B60D-F6247CE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8320-0CC4-4170-9042-E17749A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0E45-B2DC-4FA1-B492-8ADE203D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D9D1-A9F2-46F9-B409-C8FA874F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8E9F-10B8-4781-8244-8286A59E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1F2-1DFB-482D-AEBE-EAEA61B6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50C1-0544-44C4-89F3-EA2A585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7B47-F4E1-4F6D-A6D2-616F02D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5A08-1E93-4041-9008-B515D822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17AE-5674-40B6-ADEA-381BE4E4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428B-DFAD-4CB2-ACEC-BA06A420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0C4-F4A7-4ED3-A9D8-6B7C475B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87E-2F9A-4E91-BEE0-98E7CD7A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213-AD95-42F7-B8DB-FD4B63CD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BB0-1091-4BE2-969A-7EB20E74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7E1-A675-462F-8061-79EFCC0E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6AA-B114-4A93-BF91-D467A690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CFD-873A-40AC-8035-C01608E1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301D-CC8D-4967-A33B-6A2A479CF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29AC-7D00-4114-861E-1DB0DC84A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pple-tsaw.wikispaces.com/" TargetMode="External"/><Relationship Id="rId3" Type="http://schemas.openxmlformats.org/officeDocument/2006/relationships/hyperlink" Target="http://whipple-tsaw.wikispaces.com/" TargetMode="External"/><Relationship Id="rId4" Type="http://schemas.openxmlformats.org/officeDocument/2006/relationships/hyperlink" Target="http://whipple-tsaw.wikispaces.com/" TargetMode="External"/><Relationship Id="rId5" Type="http://schemas.openxmlformats.org/officeDocument/2006/relationships/hyperlink" Target="http://whipple-tsaw.wikispaces.com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n (not-so) Secrets about Wikispa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228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ptop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emphis, TN, 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l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33412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Jeff Wh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Technology Men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School District 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Fredericton, New Brunswi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Ca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5228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iteracy &amp; Learning 21st Century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redericton, N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ugust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orkshop 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whipple-tsaw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wikispace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0022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9736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386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ny educational benefits to    web 2.0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uthentic student authorship, collaboration and sha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s, wikis and podcasts most popular tools for educ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2971440"/>
            <a:ext cx="487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33:08Z</dcterms:created>
  <dc:creator>jeff.whipple</dc:creator>
  <dc:description/>
  <cp:keywords/>
  <dc:language>en-US</dc:language>
  <cp:lastModifiedBy>nbdoe</cp:lastModifiedBy>
  <cp:lastPrinted>2009-04-22T19:24:48Z</cp:lastPrinted>
  <dcterms:modified xsi:type="dcterms:W3CDTF">2007-10-18T17:39:02Z</dcterms:modified>
  <cp:revision>15</cp:revision>
  <dc:subject/>
  <dc:title>Web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51033</vt:lpwstr>
  </property>
</Properties>
</file>