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CD1-4B7D-442A-B7B3-F543E199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295-FBC1-4A1E-8124-4F92F220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A91-589E-47FB-9A9F-6A61700E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B25-A2C4-448A-92BE-A44B565A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71DA-AB2C-4C8C-B54C-D613E949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64B6-F7C5-4410-9DDD-346F61A0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D093-948B-4D21-A459-40B748C4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5339-EBA9-449F-BD54-C387FB5E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FC27-06E8-4A0C-A485-E6230EA8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53AB-EA45-48BF-8593-4E760FEB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67D6-5CA9-47D7-9C57-DD70309A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067-47DA-478C-9557-E0A86C96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87AB-C33D-4A53-B641-26C71794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639E-ED41-4315-B683-E92BD660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C832-7BDF-4E98-8EB6-00212300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06C6-2D31-44E4-80DE-A7E20E2A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4133-AE0E-4DBD-8A90-B945343F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04D-B96E-425A-88F9-AB685E62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44C-1C70-4211-826D-93576190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CCF-89F1-4236-8C20-6040426A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D8D-F59F-4B51-9412-F0723A17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E218-925C-42E0-84FC-8D55FE7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6DC-5748-4827-B376-0DCBDD3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D94-EC3F-441D-8E10-019E0F2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9DFE-28A8-49C1-A61E-D7D2DDF514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4A6A-98D6-4818-9BB8-9B3F1E80B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pple-tsaw.wikispaces.com/" TargetMode="External"/><Relationship Id="rId3" Type="http://schemas.openxmlformats.org/officeDocument/2006/relationships/hyperlink" Target="http://whipple-tsaw.wikispaces.com/" TargetMode="External"/><Relationship Id="rId4" Type="http://schemas.openxmlformats.org/officeDocument/2006/relationships/hyperlink" Target="http://whipple-tsaw.wikispaces.com/" TargetMode="External"/><Relationship Id="rId5" Type="http://schemas.openxmlformats.org/officeDocument/2006/relationships/hyperlink" Target="http://whipple-tsaw.wikispaces.com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n (not-so) Secrets about Wikispa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228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ptop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emphis, TN, 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l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33412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Jeff Wh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Technology Men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School District 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Fredericton, New Brunswi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Ca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5228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iteracy &amp; Learning 21st Century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redericton, N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ugust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orkshop 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whipple-tsaw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wikispace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0022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9736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386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ny educational benefits to    web 2.0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uthentic student authorship, collaboration and sha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s, wikis and podcasts most popular tools for educ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2971440"/>
            <a:ext cx="487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33:08Z</dcterms:created>
  <dc:creator>jeff.whipple</dc:creator>
  <dc:description/>
  <cp:keywords/>
  <dc:language>en-US</dc:language>
  <cp:lastModifiedBy>nbdoe</cp:lastModifiedBy>
  <cp:lastPrinted>2009-04-22T19:24:48Z</cp:lastPrinted>
  <dcterms:modified xsi:type="dcterms:W3CDTF">2007-10-18T17:39:02Z</dcterms:modified>
  <cp:revision>15</cp:revision>
  <dc:subject/>
  <dc:title>Web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51033</vt:lpwstr>
  </property>
</Properties>
</file>