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EAC8-DA47-483D-A620-2CF7F1B8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9124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B617-1FD6-4150-A3F8-1F8CC519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5380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FE28-BED3-40CE-8B16-619D1C34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856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3992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856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3992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A002-A222-4212-967B-BF1C7BFD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48C9-CABF-4261-A2A0-53D136F0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AD34-F5B3-4A13-9101-A027CFB2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DD5A-F7C2-4F35-A013-9786B9B6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7730-AEE2-4298-9608-8C771275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E4B2-F4A5-4519-A928-448B21D5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9ECB-151A-4DF4-AEAC-8285925E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F1B8-973B-4F5E-8646-E5CB222D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D649-CCA7-4D2E-AEB5-CCE79FE1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5380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C511-D9FC-4E59-B168-27584F21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CBA9-BE14-4F1D-929E-627A82BA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89124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4308-B430-4B76-8AAA-B4D95D6E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5380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6046-ED1F-4A1F-A2E2-C977DBD2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69856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992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69856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93992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712B-26FF-4A55-8BC6-BA3FA84E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5C99-D93F-4A77-8B78-5F5C724D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8B98-8CC7-46DE-83C9-D3E00CA5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CD87-AC21-4679-95A1-7C2CDD3B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7BDE-A463-45B3-A8A6-A692337B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B6DE-6E06-428D-9266-45C6B5C0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5380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2B1A-3264-433D-BB62-979BA8C3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09D3-2A89-418C-8C1E-CF889A08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04004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5584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A262-84EA-46EB-B074-06420FCC01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6A6A-ED97-4C21-A5CD-E57F823EBE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hipple-tsaw.wikispaces.com/" TargetMode="External"/><Relationship Id="rId3" Type="http://schemas.openxmlformats.org/officeDocument/2006/relationships/hyperlink" Target="http://whipple-tsaw.wikispaces.com/" TargetMode="External"/><Relationship Id="rId4" Type="http://schemas.openxmlformats.org/officeDocument/2006/relationships/hyperlink" Target="http://whipple-tsaw.wikispaces.com/" TargetMode="External"/><Relationship Id="rId5" Type="http://schemas.openxmlformats.org/officeDocument/2006/relationships/hyperlink" Target="http://whipple-tsaw.wikispaces.com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1d1cb"/>
                </a:solidFill>
                <a:latin typeface="Century Gothic"/>
              </a:rPr>
              <a:t>Web 2.0</a:t>
            </a:r>
            <a:endParaRPr b="0" lang="en-US" sz="60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160" y="380988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Ten (not-so) Secrets about Wikispac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52280"/>
            <a:ext cx="228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Laptop Instit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Memphis, TN, U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July 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5334120"/>
            <a:ext cx="3276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Jeff Whip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Technology Men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School District 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Fredericton, New Brunswi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Can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152280"/>
            <a:ext cx="441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Literacy &amp; Learning 21st Century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Fredericton, N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August 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ik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i="1" lang="en-US" sz="4400" spc="-1" strike="noStrike">
                <a:solidFill>
                  <a:srgbClr val="ffffff"/>
                </a:solidFill>
                <a:latin typeface="Century Gothic"/>
              </a:rPr>
              <a:t>wiki wiki”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 - Hawaiian for “fast”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-133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Backronym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W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hat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I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K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now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I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s”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-133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Wikipedi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0734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ik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6858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Website – allows visitors or members to add, remove, edit cont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Ease of use, like using MS Word docum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ree levels of participation (edit, edit with moderation, read-only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ext, images, videos, link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Wiki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Home / School communicat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lass websites (information, links, etc.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eacher generated not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Links to resour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Wiki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ollaborative project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ollaborative student note keep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Group project management / host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tudent Centered Activiti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tudent writing / edit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ollaborative ability to edit is key featur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orkshop Wik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2971800"/>
            <a:ext cx="76197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2"/>
              </a:rPr>
              <a:t>whipple-tsaw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3"/>
              </a:rPr>
              <a:t>.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4"/>
              </a:rPr>
              <a:t>wikispaces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5"/>
              </a:rPr>
              <a:t>.co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7080" y="5176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21st century Digital Literacy…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600228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7080" y="5176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21st century Digital Literacy…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828800" y="1752480"/>
            <a:ext cx="569736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7080" y="5176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21st century Digital Literacy…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828800" y="1752480"/>
            <a:ext cx="56386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In the beginning…Web 1.0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First generation web servic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Special skills and tools required for web autho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Most individuals limited to being consumers of web-based inform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hat is Web 2.0?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662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Web 2.0 – second generation of web-based servic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Web based authoring tools readily availabl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Everyone can be an                    author / producer of                 information – limited                     skill require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257800" y="3886200"/>
            <a:ext cx="37339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d1cb"/>
                </a:solidFill>
                <a:latin typeface="Century Gothic"/>
              </a:rPr>
              <a:t>Web 2.0 – as a learning tool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Many educational benefits to    web 2.0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Authentic student authorship, collaboration and sha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Blogs, wikis and podcasts most popular tools for educ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d1cb"/>
                </a:solidFill>
                <a:latin typeface="Century Gothic"/>
              </a:rPr>
              <a:t>Web 2.0 – as a learning tool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Web-based      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No special software needed!!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Anytime…anywhere!</a:t>
            </a: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5120" y="2971440"/>
            <a:ext cx="487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ff"/>
                </a:solidFill>
                <a:latin typeface="Century Gothic"/>
              </a:rPr>
              <a:t>Wikis</a:t>
            </a:r>
            <a:endParaRPr b="0" lang="en-US" sz="12900" spc="-1" strike="noStrike">
              <a:solidFill>
                <a:srgbClr val="d1d1c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4:33:08Z</dcterms:created>
  <dc:creator>jeff.whipple</dc:creator>
  <dc:description/>
  <cp:keywords/>
  <dc:language>en-US</dc:language>
  <cp:lastModifiedBy>nbdoe</cp:lastModifiedBy>
  <cp:lastPrinted>2009-04-22T19:24:48Z</cp:lastPrinted>
  <dcterms:modified xsi:type="dcterms:W3CDTF">2007-10-18T17:39:02Z</dcterms:modified>
  <cp:revision>15</cp:revision>
  <dc:subject/>
  <dc:title>Web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51033</vt:lpwstr>
  </property>
</Properties>
</file>