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C8F9-D075-4E9C-B91F-FB14891B39B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04E-802B-4C2F-B16F-BFC6E411E9D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DA0-4D2E-42F2-A148-70AA888F37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ABAF-6143-4A5C-87CF-A214360CAB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901D-AAB1-474E-A0D7-18DD2A0B1D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8333-A333-4104-8AC5-2782F336F54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0D1-B3E3-4758-B8BE-D1659A7847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28AE-28D8-4B50-917E-8CDD27091C4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5AC5-DC66-4FDB-97A0-E459AD2AE62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0166-2257-4CE4-A72D-E3725B4EA75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90A-4F3A-4466-A248-7C3EF4E8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630-4EA0-43EF-B9A2-B2922017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556-954A-4833-98DF-B2F76466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1E4-923D-4422-927B-ECC11440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3C79-8816-41E9-8088-A23A0743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9239-2674-4DF7-B819-3FF3A05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7490-B185-48FF-970D-394D9BBA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BE87-B240-4823-9878-1DDB858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BB8-4185-4C20-8DDA-4F537635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9CCF-4E74-4DC1-944F-941BB0B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E90F-7B4F-4202-ACDB-5D642B4A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4CB-2F14-43EB-AFD5-1A2182F0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D527-81F8-4E21-99D4-D89BAA6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D0B8-8D7B-4A25-865B-67FE5C7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02FD-08F0-44A1-BA3E-F124CD0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9DBB-D7F8-4868-92D7-9CC4162D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F032-583A-4585-88BD-BE6D12EE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87D-65A6-42B6-932F-8E8AD539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C2B-3E44-48D8-9FAC-4CC02EE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EC9-42DC-43B2-A8BB-E784495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079-605A-490E-848B-6DD19EF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47A-5A72-4FD9-B8D0-E6CF833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2EF-994C-4C0F-8AE0-598E3B0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F5F-6977-42BF-B085-C9F94CC3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222B-C134-45BF-AE4B-E3455A5FF18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ECB-8C4A-4A2F-8518-BE4DBD62076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Tahoma"/>
              </a:rPr>
              <a:t>Microsoft Learning Essenti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y Allen St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 Whom Is It Available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ly available to Microsoft Academic Volume Licens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ademic customers with volume licenses for Microsoft Office 2007, Microsoft Office 2003, Microsoft Office XP, Professional or Standard editions,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re licensed to use Learning Essentials at </a:t>
            </a:r>
            <a:r>
              <a:rPr b="0" lang="en-CA" sz="3200" spc="-1" strike="noStrike" u="sng">
                <a:solidFill>
                  <a:srgbClr val="ff0000"/>
                </a:solidFill>
                <a:uFillTx/>
                <a:latin typeface="Arial"/>
              </a:rPr>
              <a:t>no additional licens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How Do I Get It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ownload it yourself fro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Microsoft.com/learning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distributed by your IT department with an installation C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available through your net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p Fea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ucator and Studen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By leading Educational Publisher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-by-side Projec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Educator and Student Cent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771640" y="3660840"/>
            <a:ext cx="4305600" cy="31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752560" y="990720"/>
            <a:ext cx="4334040" cy="321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olb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and Scien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nc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anis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rman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and Quiz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or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utori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utorials offered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elpful hints” windows and tutorial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7610400" y="419040"/>
            <a:ext cx="1533600" cy="54864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133800" y="2448000"/>
            <a:ext cx="3952800" cy="33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Side-by-Side Projec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6"/>
          <p:cNvSpPr/>
          <p:nvPr/>
        </p:nvSpPr>
        <p:spPr>
          <a:xfrm rot="5400000">
            <a:off x="6876720" y="2266920"/>
            <a:ext cx="106668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66"/>
                </a:solidFill>
                <a:latin typeface="Tahoma"/>
              </a:rPr>
              <a:t>Making It Work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Students installed on lab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Educators installed on your persona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ith Learning Essentials, educators and students can get started, stay organized, and successfully complete high-quality work. Educators can create effective instructional resources, complete administrative tasks, and implement new teaching strate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In a Nutshell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Let’s Pla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ng a test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French Accents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 through some of th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IS LIKE GETTING </a:t>
            </a:r>
            <a:br>
              <a:rPr sz="3200"/>
            </a:b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EE PD for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5000" y="2733840"/>
            <a:ext cx="644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What is a Technology Mentor?</a:t>
            </a:r>
            <a:br>
              <a:rPr sz="3200"/>
            </a:br>
            <a:r>
              <a:rPr b="1" lang="en-CA" sz="2000" spc="-1" strike="noStrike">
                <a:solidFill>
                  <a:srgbClr val="006666"/>
                </a:solidFill>
                <a:latin typeface="Tahoma"/>
              </a:rPr>
              <a:t>(in NB)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Comments / Ques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D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419120" y="20480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000000"/>
                </a:solidFill>
                <a:latin typeface="Arial"/>
              </a:rPr>
              <a:t>Experimentation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2695680" y="6429240"/>
            <a:ext cx="49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en.Steeves@nbed.nb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0160" y="9050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User Account </a:t>
            </a:r>
            <a:br>
              <a:rPr sz="3200"/>
            </a:b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SFU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0145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guest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@86Knnc (pas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00240" y="4438800"/>
            <a:ext cx="5848560" cy="11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95040" y="2081160"/>
            <a:ext cx="724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urriculum-Base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emplat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oolb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85800" y="14335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llows teachers and students to produce </a:t>
            </a:r>
            <a:r>
              <a:rPr b="0" lang="en-CA" sz="4800" spc="-1" strike="noStrike">
                <a:solidFill>
                  <a:srgbClr val="ff0000"/>
                </a:solidFill>
                <a:latin typeface="Arial"/>
              </a:rPr>
              <a:t>high-quality work 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ith 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Getting to your destin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P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a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want to go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sort of know how to get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arning Essentials will take you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more often you take the route, the more comfortable you’ll become getting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will be guided along the wa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destination will be better than you had imagined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arget Us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38440"/>
            <a:ext cx="72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Educa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Stud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9:25Z</dcterms:created>
  <dc:creator/>
  <dc:description/>
  <dc:language>en-US</dc:language>
  <cp:lastModifiedBy/>
  <dcterms:modified xsi:type="dcterms:W3CDTF">2008-10-02T18:24:20Z</dcterms:modified>
  <cp:revision>1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Mode">
    <vt:lpwstr>teacher</vt:lpwstr>
  </property>
  <property fmtid="{D5CDD505-2E9C-101B-9397-08002B2CF9AE}" pid="3" name="_TemplateID">
    <vt:lpwstr>TC011589511033</vt:lpwstr>
  </property>
</Properties>
</file>