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EE71-B5C9-46E6-9494-EEDD65DA1B5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54F4-8D91-4337-A5FE-6164529A3A4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984A-09AD-43D2-9FC6-C0BB13BDF19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20D0-77B8-4634-ACB7-277D652716B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F13F-061D-4C66-8827-C630CE23FF7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E474-18D1-4146-8612-B30C953FB58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A9A0-16A5-4CEF-905C-3C3EC5B5B29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2AEB-0504-47C0-8786-51A4C1A1869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FF46-40D9-44D6-9CE4-1CD3344031D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6FBC-7582-409C-8AB7-26E5AE7CE6D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2D8E-FFCC-4F37-9878-C3FE0FBC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A00E-A423-4C8E-A7BE-FFCC4AC9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FEA-E02E-4138-BB88-01E67738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83E-FA76-41DF-ABBF-1AAEA6E0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070A-1901-4F6E-8CB3-AAB775A7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8E6A-CB0E-4084-B319-0D6D7904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A4A1-31DD-4D07-B822-B6DE6AA2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BC75-D4C5-4D23-B49E-F49158AE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C4F5-3795-4C64-A430-C6ED2480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CB9E-35FC-4B13-8CDA-970424B6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8CE0-2B2B-4F29-A503-FA11239E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ED48-2F09-4D94-B11B-2832B317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D9F9-03B9-4143-AB92-7242ED8F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FFBB-887F-4131-A63D-E4BAF92E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6F3E-67D3-44AE-8FF8-4F845A4D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908B-7280-4DD7-9A53-FBD15E31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0E46-BE14-4FDB-84BB-6614ADEB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672-3C4C-4A8A-85B2-F4E6D9D6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64B7-DE5C-43DE-A6AF-9E56F133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AB8-C93D-469F-904F-C500CC3E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28D-3DFE-45A5-AEF6-F85341A6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321-F49F-40E8-BE7A-07D08CC6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EE49-6F9D-40F3-B097-668FB29D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13F0-75C4-4121-8D8E-3DAF3951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347F-9120-4827-899F-A24D8190CC1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C802-2DCF-41A0-83C8-6C63E75EB9F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14320" y="133956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Tahoma"/>
              </a:rPr>
              <a:t>Microsoft Learning Essential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991960" y="2768760"/>
            <a:ext cx="524844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00000"/>
                </a:solidFill>
                <a:latin typeface="Arial"/>
              </a:rPr>
              <a:t>By Allen Stee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o Whom Is It Available?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120" y="1395360"/>
            <a:ext cx="6735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ly available to Microsoft Academic Volume Licensing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ademic customers with volume licenses for Microsoft Office 2007, Microsoft Office 2003, Microsoft Office XP, Professional or Standard editions,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are licensed to use Learning Essentials at </a:t>
            </a:r>
            <a:r>
              <a:rPr b="0" lang="en-CA" sz="3200" spc="-1" strike="noStrike" u="sng">
                <a:solidFill>
                  <a:srgbClr val="ff0000"/>
                </a:solidFill>
                <a:uFillTx/>
                <a:latin typeface="Arial"/>
              </a:rPr>
              <a:t>no additional licensing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How Do I Get It?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can 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Download it yourself from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6666"/>
                </a:solidFill>
                <a:latin typeface="Arial"/>
              </a:rPr>
              <a:t>Microsoft.com/learningessent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Have it distributed by your IT department with an installation C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Have it available through your network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op Featur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ducator and Student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olb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000" spc="-1" strike="noStrike">
                <a:solidFill>
                  <a:srgbClr val="000000"/>
                </a:solidFill>
                <a:latin typeface="Arial"/>
              </a:rPr>
              <a:t>By leading Educational Publisher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ide-by-side Project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Educator and Student Centr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605640" y="223920"/>
            <a:ext cx="213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2771640" y="3660840"/>
            <a:ext cx="4305600" cy="3197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2752560" y="990720"/>
            <a:ext cx="4334040" cy="3217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oolba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th and Scienc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th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ench Languag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panish Languag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erman Languag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st and Quiz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por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utorial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Tutorials offered at the righ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Helpful hints” windows and tutorial s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7610400" y="419040"/>
            <a:ext cx="1533600" cy="54864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133800" y="2448000"/>
            <a:ext cx="3952800" cy="337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Side-by-Side Project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sosceles Triangle 6"/>
          <p:cNvSpPr/>
          <p:nvPr/>
        </p:nvSpPr>
        <p:spPr>
          <a:xfrm rot="5400000">
            <a:off x="6876720" y="2266920"/>
            <a:ext cx="1066680" cy="647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6666"/>
                </a:solidFill>
                <a:latin typeface="Tahoma"/>
              </a:rPr>
              <a:t>Making It Work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Learning Essentials for Students installed on lab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Learning Essentials for Educators installed on your personal compu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With Learning Essentials, educators and students can get started, stay organized, and successfully complete high-quality work. Educators can create effective instructional resources, complete administrative tasks, and implement new teaching strateg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In a Nutshell…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Let’s Pla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eating a test (demo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French Accents (demo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o through some of the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THIS IS LIKE GETTING </a:t>
            </a:r>
            <a:br>
              <a:rPr sz="3200"/>
            </a:b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FREE PD for your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95000" y="2733840"/>
            <a:ext cx="644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What is a Technology Mentor?</a:t>
            </a:r>
            <a:br>
              <a:rPr sz="3200"/>
            </a:br>
            <a:r>
              <a:rPr b="1" lang="en-CA" sz="2000" spc="-1" strike="noStrike">
                <a:solidFill>
                  <a:srgbClr val="006666"/>
                </a:solidFill>
                <a:latin typeface="Tahoma"/>
              </a:rPr>
              <a:t>(in NB)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Comments / Question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fu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D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1419120" y="2048040"/>
            <a:ext cx="7724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0" spc="-1" strike="noStrike">
                <a:solidFill>
                  <a:srgbClr val="000000"/>
                </a:solidFill>
                <a:latin typeface="Arial"/>
              </a:rPr>
              <a:t>Experimentation Tim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2695680" y="6429240"/>
            <a:ext cx="4981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llen.Steeves@nbed.nb.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00160" y="90504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User Account </a:t>
            </a:r>
            <a:br>
              <a:rPr sz="3200"/>
            </a:b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SFU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52480" y="20145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sguest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8@86Knnc (passwor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techtoday.110mb.com/wp-content/microsoft-office-logo.jpg"/>
          <p:cNvPicPr/>
          <p:nvPr/>
        </p:nvPicPr>
        <p:blipFill>
          <a:blip r:embed="rId1"/>
          <a:stretch/>
        </p:blipFill>
        <p:spPr>
          <a:xfrm>
            <a:off x="2971800" y="2033640"/>
            <a:ext cx="4997520" cy="3801960"/>
          </a:xfrm>
          <a:prstGeom prst="rect">
            <a:avLst/>
          </a:prstGeom>
          <a:ln w="0">
            <a:noFill/>
          </a:ln>
        </p:spPr>
      </p:pic>
      <p:sp>
        <p:nvSpPr>
          <p:cNvPr id="95" name="Straight Connector 6"/>
          <p:cNvSpPr/>
          <p:nvPr/>
        </p:nvSpPr>
        <p:spPr>
          <a:xfrm>
            <a:off x="2066760" y="4448160"/>
            <a:ext cx="5172120" cy="714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8"/>
          <p:cNvSpPr/>
          <p:nvPr/>
        </p:nvSpPr>
        <p:spPr>
          <a:xfrm>
            <a:off x="3067200" y="3914640"/>
            <a:ext cx="6076800" cy="178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techtoday.110mb.com/wp-content/microsoft-office-logo.jpg"/>
          <p:cNvPicPr/>
          <p:nvPr/>
        </p:nvPicPr>
        <p:blipFill>
          <a:blip r:embed="rId1"/>
          <a:stretch/>
        </p:blipFill>
        <p:spPr>
          <a:xfrm>
            <a:off x="2971800" y="2033640"/>
            <a:ext cx="4997520" cy="3801960"/>
          </a:xfrm>
          <a:prstGeom prst="rect">
            <a:avLst/>
          </a:prstGeom>
          <a:ln w="0">
            <a:noFill/>
          </a:ln>
        </p:spPr>
      </p:pic>
      <p:sp>
        <p:nvSpPr>
          <p:cNvPr id="98" name="Straight Connector 6"/>
          <p:cNvSpPr/>
          <p:nvPr/>
        </p:nvSpPr>
        <p:spPr>
          <a:xfrm>
            <a:off x="2066760" y="4448160"/>
            <a:ext cx="5172120" cy="714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8"/>
          <p:cNvSpPr/>
          <p:nvPr/>
        </p:nvSpPr>
        <p:spPr>
          <a:xfrm>
            <a:off x="3067200" y="3914640"/>
            <a:ext cx="6076800" cy="178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3000240" y="4438800"/>
            <a:ext cx="5848560" cy="11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895040" y="2081160"/>
            <a:ext cx="7248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Curriculum-Based </a:t>
            </a:r>
            <a:r>
              <a:rPr b="0" lang="en-CA" sz="4000" spc="-1" strike="noStrike">
                <a:solidFill>
                  <a:srgbClr val="ff0000"/>
                </a:solidFill>
                <a:latin typeface="Arial"/>
              </a:rPr>
              <a:t>Templates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CA" sz="4000" spc="-1" strike="noStrike">
                <a:solidFill>
                  <a:srgbClr val="ff0000"/>
                </a:solidFill>
                <a:latin typeface="Arial"/>
              </a:rPr>
              <a:t>Toolb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85800" y="143352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Allows teachers and students to produce </a:t>
            </a:r>
            <a:r>
              <a:rPr b="0" lang="en-CA" sz="4800" spc="-1" strike="noStrike">
                <a:solidFill>
                  <a:srgbClr val="ff0000"/>
                </a:solidFill>
                <a:latin typeface="Arial"/>
              </a:rPr>
              <a:t>high-quality work </a:t>
            </a: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with ea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Getting to your destinat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PS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You know where you ar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You know where you want to go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You sort of know how to get ther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earning Essentials will take you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The more often you take the route, the more comfortable you’ll become getting ther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You will be guided along the way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The destination will be better than you had imagined!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arget Use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738440"/>
            <a:ext cx="7267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Edu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6666"/>
                </a:solidFill>
                <a:latin typeface="Arial"/>
              </a:rPr>
              <a:t>Learning Essentials for Educat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6666"/>
                </a:solidFill>
                <a:latin typeface="Arial"/>
              </a:rPr>
              <a:t>Learning Essentials for Student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23:39:25Z</dcterms:created>
  <dc:creator/>
  <dc:description/>
  <dc:language>en-US</dc:language>
  <cp:lastModifiedBy/>
  <dcterms:modified xsi:type="dcterms:W3CDTF">2008-10-02T18:24:20Z</dcterms:modified>
  <cp:revision>10</cp:revision>
  <dc:subject/>
  <dc:title>Classroom Expec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Mode">
    <vt:lpwstr>teacher</vt:lpwstr>
  </property>
  <property fmtid="{D5CDD505-2E9C-101B-9397-08002B2CF9AE}" pid="3" name="_TemplateID">
    <vt:lpwstr>TC011589511033</vt:lpwstr>
  </property>
</Properties>
</file>