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E96A-222A-4521-B0C8-7D2EBEDFBE5A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7A43-2CA7-4CC4-9BC9-6ED05EF9BEAF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B3A8-9534-4032-9A84-4F23811E9FE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E198-0E32-4470-B79A-D63A82E197F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4F7D-1622-4DD6-A1A1-D378CC7CCC4A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810A-4469-47C1-AD49-6EE6C5E37A4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A7A2-F411-429A-A7B2-56980405819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44DE-91A4-4ECC-91AE-876D14B15EAA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3CA5-4BAD-4CDC-A0AD-362B7B8587C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47E6-B1E3-40DC-A97D-1AE791A9EAC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D843-0CE6-4B88-8B8C-52370B5AF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C358-56E8-4AF0-BB2B-72920DB5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19F8-F14B-4C34-9F50-EE7D093A6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F147-6DD8-448B-B735-BC3FA89F0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729F2-0632-4A08-B03C-D6ABF7F78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CD530-6764-4EDE-9993-2A20BBE7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CF51-13D4-4480-B224-83C10EEF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332B-2C32-4EDB-ADD4-51941B01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924A-7D2C-4E06-B40A-944041F1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15C1-8E9D-470C-9555-4BE856F2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624F-E7AD-4C27-9FDC-82DBF5D8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6152-BB8B-404E-A7E4-8689B46C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B98BC-CA96-4EDF-8C32-D5896484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AF3F-8AB0-418A-892E-66885ADF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0429-76FE-43FB-9591-034DBDB9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8622-4290-4D03-AC8C-394C913FF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AB99-E4B5-49FD-A6B8-0704DB588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62B8-1085-4647-AF12-AF9ADEC8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BC52-548E-4026-B94A-8C2495E2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22F4-AE70-4E8D-A920-2D85A4D8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F22B-5109-4ADF-B374-A339DCE4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DD36-42A3-4D2A-80F4-A5241180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1E62-9029-4629-BD51-AE730EF3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8F8D-E72D-4AA6-93BF-3D557213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0BF8-1C13-4A66-BFC3-84BEDB3AB87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FABF-C80C-4721-BF75-FE8D8B96875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14320" y="1339560"/>
            <a:ext cx="742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6666"/>
                </a:solidFill>
                <a:latin typeface="Tahoma"/>
              </a:rPr>
              <a:t>Microsoft Learning Essentials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991960" y="2768760"/>
            <a:ext cx="5248440" cy="11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000000"/>
                </a:solidFill>
                <a:latin typeface="Arial"/>
              </a:rPr>
              <a:t>By Allen Stee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To Whom Is It Available?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52120" y="1395360"/>
            <a:ext cx="6735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nly available to Microsoft Academic Volume Licensing cust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ademic customers with volume licenses for Microsoft Office 2007, Microsoft Office 2003, Microsoft Office XP, Professional or Standard editions, </a:t>
            </a: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are licensed to use Learning Essentials at </a:t>
            </a:r>
            <a:r>
              <a:rPr b="0" lang="en-CA" sz="3200" spc="-1" strike="noStrike" u="sng">
                <a:solidFill>
                  <a:srgbClr val="ff0000"/>
                </a:solidFill>
                <a:uFillTx/>
                <a:latin typeface="Arial"/>
              </a:rPr>
              <a:t>no additional licensing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How Do I Get It?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You can ei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Download it yourself from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6666"/>
                </a:solidFill>
                <a:latin typeface="Arial"/>
              </a:rPr>
              <a:t>Microsoft.com/learningessent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Have it distributed by your IT department with an installation CD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Have it available through your network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Top Feature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ducator and Student Cen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olb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000" spc="-1" strike="noStrike">
                <a:solidFill>
                  <a:srgbClr val="000000"/>
                </a:solidFill>
                <a:latin typeface="Arial"/>
              </a:rPr>
              <a:t>By leading Educational Publishers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mp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ide-by-side Project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Educator and Student Centre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6605640" y="223920"/>
            <a:ext cx="2139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2771640" y="3660840"/>
            <a:ext cx="4305600" cy="3197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"/>
          <p:cNvPicPr/>
          <p:nvPr/>
        </p:nvPicPr>
        <p:blipFill>
          <a:blip r:embed="rId2"/>
          <a:stretch/>
        </p:blipFill>
        <p:spPr>
          <a:xfrm>
            <a:off x="2752560" y="990720"/>
            <a:ext cx="4334040" cy="3217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Toolbar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th and Science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th Symb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rench Language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panish Language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erman Language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est and Quiz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por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Tutorial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Tutorials offered at the right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Helpful hints” windows and tutorial si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0" y="43812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4"/>
          <p:cNvSpPr/>
          <p:nvPr/>
        </p:nvSpPr>
        <p:spPr>
          <a:xfrm>
            <a:off x="7610400" y="419040"/>
            <a:ext cx="1533600" cy="548640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3133800" y="2448000"/>
            <a:ext cx="3952800" cy="337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Side-by-Side Project 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Isosceles Triangle 6"/>
          <p:cNvSpPr/>
          <p:nvPr/>
        </p:nvSpPr>
        <p:spPr>
          <a:xfrm rot="5400000">
            <a:off x="6876720" y="2266920"/>
            <a:ext cx="1066680" cy="647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6666"/>
                </a:solidFill>
                <a:latin typeface="Tahoma"/>
              </a:rPr>
              <a:t>Making It Work</a:t>
            </a:r>
            <a:endParaRPr b="1" lang="en-US" sz="4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Learning Essentials for Students installed on lab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Learning Essentials for Educators installed on your personal compu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With Learning Essentials, educators and students can get started, stay organized, and successfully complete high-quality work. Educators can create effective instructional resources, complete administrative tasks, and implement new teaching strateg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In a Nutshell…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Let’s Play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reating a test (demo on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 French Accents (demo on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o through some of the temp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THIS IS LIKE GETTING </a:t>
            </a:r>
            <a:br>
              <a:rPr sz="3200"/>
            </a:b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FREE PD for your TEA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95000" y="2733840"/>
            <a:ext cx="644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What is a Technology Mentor?</a:t>
            </a:r>
            <a:br>
              <a:rPr sz="3200"/>
            </a:br>
            <a:r>
              <a:rPr b="1" lang="en-CA" sz="2000" spc="-1" strike="noStrike">
                <a:solidFill>
                  <a:srgbClr val="006666"/>
                </a:solidFill>
                <a:latin typeface="Tahoma"/>
              </a:rPr>
              <a:t>(in NB)</a:t>
            </a:r>
            <a:endParaRPr b="1" lang="en-US" sz="2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Comments / Question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ful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D for tea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1419120" y="2048040"/>
            <a:ext cx="7724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0" spc="-1" strike="noStrike">
                <a:solidFill>
                  <a:srgbClr val="000000"/>
                </a:solidFill>
                <a:latin typeface="Arial"/>
              </a:rPr>
              <a:t>Experimentation Time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2695680" y="6429240"/>
            <a:ext cx="49813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llen.Steeves@nbed.nb.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00160" y="90504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User Account </a:t>
            </a:r>
            <a:br>
              <a:rPr sz="3200"/>
            </a:b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SFU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752480" y="20145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sguest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8@86Knnc (passwor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http://techtoday.110mb.com/wp-content/microsoft-office-logo.jpg"/>
          <p:cNvPicPr/>
          <p:nvPr/>
        </p:nvPicPr>
        <p:blipFill>
          <a:blip r:embed="rId1"/>
          <a:stretch/>
        </p:blipFill>
        <p:spPr>
          <a:xfrm>
            <a:off x="2971800" y="2033640"/>
            <a:ext cx="4997520" cy="3801960"/>
          </a:xfrm>
          <a:prstGeom prst="rect">
            <a:avLst/>
          </a:prstGeom>
          <a:ln w="0">
            <a:noFill/>
          </a:ln>
        </p:spPr>
      </p:pic>
      <p:sp>
        <p:nvSpPr>
          <p:cNvPr id="95" name="Straight Connector 6"/>
          <p:cNvSpPr/>
          <p:nvPr/>
        </p:nvSpPr>
        <p:spPr>
          <a:xfrm>
            <a:off x="2066760" y="4448160"/>
            <a:ext cx="5172120" cy="714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8"/>
          <p:cNvSpPr/>
          <p:nvPr/>
        </p:nvSpPr>
        <p:spPr>
          <a:xfrm>
            <a:off x="3067200" y="3914640"/>
            <a:ext cx="6076800" cy="178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://techtoday.110mb.com/wp-content/microsoft-office-logo.jpg"/>
          <p:cNvPicPr/>
          <p:nvPr/>
        </p:nvPicPr>
        <p:blipFill>
          <a:blip r:embed="rId1"/>
          <a:stretch/>
        </p:blipFill>
        <p:spPr>
          <a:xfrm>
            <a:off x="2971800" y="2033640"/>
            <a:ext cx="4997520" cy="3801960"/>
          </a:xfrm>
          <a:prstGeom prst="rect">
            <a:avLst/>
          </a:prstGeom>
          <a:ln w="0">
            <a:noFill/>
          </a:ln>
        </p:spPr>
      </p:pic>
      <p:sp>
        <p:nvSpPr>
          <p:cNvPr id="98" name="Straight Connector 6"/>
          <p:cNvSpPr/>
          <p:nvPr/>
        </p:nvSpPr>
        <p:spPr>
          <a:xfrm>
            <a:off x="2066760" y="4448160"/>
            <a:ext cx="5172120" cy="714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8"/>
          <p:cNvSpPr/>
          <p:nvPr/>
        </p:nvSpPr>
        <p:spPr>
          <a:xfrm>
            <a:off x="3067200" y="3914640"/>
            <a:ext cx="6076800" cy="178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3000240" y="4438800"/>
            <a:ext cx="5848560" cy="116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88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895040" y="2081160"/>
            <a:ext cx="7248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Curriculum-Based </a:t>
            </a:r>
            <a:r>
              <a:rPr b="0" lang="en-CA" sz="4000" spc="-1" strike="noStrike">
                <a:solidFill>
                  <a:srgbClr val="ff0000"/>
                </a:solidFill>
                <a:latin typeface="Arial"/>
              </a:rPr>
              <a:t>Templates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CA" sz="4000" spc="-1" strike="noStrike">
                <a:solidFill>
                  <a:srgbClr val="ff0000"/>
                </a:solidFill>
                <a:latin typeface="Arial"/>
              </a:rPr>
              <a:t>Toolb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485800" y="143352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Allows teachers and students to produce </a:t>
            </a:r>
            <a:r>
              <a:rPr b="0" lang="en-CA" sz="4800" spc="-1" strike="noStrike">
                <a:solidFill>
                  <a:srgbClr val="ff0000"/>
                </a:solidFill>
                <a:latin typeface="Arial"/>
              </a:rPr>
              <a:t>high-quality work </a:t>
            </a: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with ea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Getting to your destination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PS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Arial"/>
              </a:rPr>
              <a:t>You know where you are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Arial"/>
              </a:rPr>
              <a:t>You know where you want to go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Arial"/>
              </a:rPr>
              <a:t>You sort of know how to get there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Learning Essentials will take you 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Arial"/>
              </a:rPr>
              <a:t>The more often you take the route, the more comfortable you’ll become getting there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Arial"/>
              </a:rPr>
              <a:t>You will be guided along the way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Arial"/>
              </a:rPr>
              <a:t>The destination will be better than you had imagined!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Target User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52480" y="1738440"/>
            <a:ext cx="7267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Educ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6666"/>
                </a:solidFill>
                <a:latin typeface="Arial"/>
              </a:rPr>
              <a:t>Learning Essentials for Educator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6666"/>
                </a:solidFill>
                <a:latin typeface="Arial"/>
              </a:rPr>
              <a:t>Learning Essentials for Student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9T23:39:25Z</dcterms:created>
  <dc:creator/>
  <dc:description/>
  <dc:language>en-US</dc:language>
  <cp:lastModifiedBy/>
  <dcterms:modified xsi:type="dcterms:W3CDTF">2008-10-02T18:24:20Z</dcterms:modified>
  <cp:revision>10</cp:revision>
  <dc:subject/>
  <dc:title>Classroom Expect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E Mode">
    <vt:lpwstr>teacher</vt:lpwstr>
  </property>
  <property fmtid="{D5CDD505-2E9C-101B-9397-08002B2CF9AE}" pid="3" name="_TemplateID">
    <vt:lpwstr>TC011589511033</vt:lpwstr>
  </property>
</Properties>
</file>