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E51-6093-4E8C-8150-1BB0570CC89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BF9-47A3-4FCD-BA18-41E197904AD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5F39-CA2E-4276-8FD3-B78673857DA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0AF-B565-45C9-8E1D-75BBAD6811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6E9B-FECE-4ACA-81E1-474F4B8974B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B88-9949-490E-A3E9-8992851F4EC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C20D-9F79-472D-B2E4-73DD440D058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83EC-A273-4812-9D77-05B62D9BBC1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CA32-56AC-4D29-B401-10578E7A13A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3B4D-6C42-4605-B6E3-2DD26B38C9D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632-134F-41FF-A366-44EEF11A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388-0459-49FC-9388-310E9878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CA9-9750-4EAA-A97E-72C1166F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5C7-05F3-42B4-8A9E-7C4A8D8F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EDC6-160E-44FD-9BF4-64EE20B0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F4FE-9A45-41F6-B203-9564DF0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29E-FC6F-4A6D-86F4-41C6B298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05C1-A360-4EBB-909F-933B4BB9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DD15-6F26-4DDB-84A0-2B8019C6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AB1-971C-4CFC-84CF-148AE11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6D8C-04A1-4107-A758-50AE803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D43-93D0-4638-9394-7E75EC90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1EBE-2B06-4EE6-ACD8-2D1601A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FD93-D836-48AC-8AA0-D38F2C3A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0BE-CC79-46CE-A38E-12F480FA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4E8-CFB0-4BBE-A7EE-4DB85BC1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2088-5618-4FA2-93B5-DA6A24C6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6BB-B1F5-4051-BE1E-67E7D48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3D1-F75C-45FF-A7C3-2BDA12F2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1C7-22FB-4E83-9211-7B64F72D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9F1-135B-4717-9DBF-6FBEE5FE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D57-327F-47D6-ADF6-E3E9DA4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479-D2F9-4294-A757-C006AEC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F92-7358-4A3D-BB12-77A6C55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C636-8789-4127-945A-937436210AA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72CB-2AA6-4247-BA55-D7B83C3E1EC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6666"/>
                </a:solidFill>
                <a:latin typeface="Tahoma"/>
              </a:rPr>
              <a:t>Microsoft Learning Essential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By Allen St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 Whom Is It Available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ly available to Microsoft Academic Volume Licensing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ademic customers with volume licenses for Microsoft Office 2007, Microsoft Office 2003, Microsoft Office XP, Professional or Standard editions,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re licensed to use Learning Essentials at </a:t>
            </a:r>
            <a:r>
              <a:rPr b="0" lang="en-CA" sz="3200" spc="-1" strike="noStrike" u="sng">
                <a:solidFill>
                  <a:srgbClr val="ff0000"/>
                </a:solidFill>
                <a:uFillTx/>
                <a:latin typeface="Arial"/>
              </a:rPr>
              <a:t>no additional licensing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How Do I Get It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ownload it yourself fro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6666"/>
                </a:solidFill>
                <a:latin typeface="Arial"/>
              </a:rPr>
              <a:t>Microsoft.com/learning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distributed by your IT department with an installation C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ave it available through your network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p Featu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ducator and Student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000" spc="-1" strike="noStrike">
                <a:solidFill>
                  <a:srgbClr val="000000"/>
                </a:solidFill>
                <a:latin typeface="Arial"/>
              </a:rPr>
              <a:t>By leading Educational Publisher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de-by-side Project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Educator and Student Centr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771640" y="3660840"/>
            <a:ext cx="4305600" cy="3197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2752560" y="990720"/>
            <a:ext cx="4334040" cy="321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oolba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and Scien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h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nc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anish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rman Languag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 and Quiz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or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utori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utorials offered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Helpful hints” windows and tutorial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7610400" y="419040"/>
            <a:ext cx="1533600" cy="54864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133800" y="2448000"/>
            <a:ext cx="3952800" cy="337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Arial"/>
              </a:rPr>
              <a:t>Side-by-Side Project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Isosceles Triangle 6"/>
          <p:cNvSpPr/>
          <p:nvPr/>
        </p:nvSpPr>
        <p:spPr>
          <a:xfrm rot="5400000">
            <a:off x="6876720" y="2266920"/>
            <a:ext cx="1066680" cy="647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6666"/>
                </a:solidFill>
                <a:latin typeface="Tahoma"/>
              </a:rPr>
              <a:t>Making It Work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Students installed on lab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Essentials for Educators installed on your personal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ith Learning Essentials, educators and students can get started, stay organized, and successfully complete high-quality work. Educators can create effective instructional resources, complete administrative tasks, and implement new teaching strate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In a Nutshell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Let’s Play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ing a test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French Accents (demo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o through some of the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HIS IS LIKE GETTING </a:t>
            </a:r>
            <a:br>
              <a:rPr sz="3200"/>
            </a:b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EE PD for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95000" y="2733840"/>
            <a:ext cx="644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What is a Technology Mentor?</a:t>
            </a:r>
            <a:br>
              <a:rPr sz="3200"/>
            </a:br>
            <a:r>
              <a:rPr b="1" lang="en-CA" sz="2000" spc="-1" strike="noStrike">
                <a:solidFill>
                  <a:srgbClr val="006666"/>
                </a:solidFill>
                <a:latin typeface="Tahoma"/>
              </a:rPr>
              <a:t>(in NB)</a:t>
            </a:r>
            <a:endParaRPr b="1" lang="en-US" sz="20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Comments / Ques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fu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D for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419120" y="20480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000000"/>
                </a:solidFill>
                <a:latin typeface="Arial"/>
              </a:rPr>
              <a:t>Experimentation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2695680" y="6429240"/>
            <a:ext cx="49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len.Steeves@nbed.nb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00160" y="90504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User Account </a:t>
            </a:r>
            <a:br>
              <a:rPr sz="3200"/>
            </a:b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SFU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52480" y="20145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guest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@86Knnc (pas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echtoday.110mb.com/wp-content/microsoft-office-logo.jpg"/>
          <p:cNvPicPr/>
          <p:nvPr/>
        </p:nvPicPr>
        <p:blipFill>
          <a:blip r:embed="rId1"/>
          <a:stretch/>
        </p:blipFill>
        <p:spPr>
          <a:xfrm>
            <a:off x="2971800" y="2033640"/>
            <a:ext cx="4997520" cy="380196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6"/>
          <p:cNvSpPr/>
          <p:nvPr/>
        </p:nvSpPr>
        <p:spPr>
          <a:xfrm>
            <a:off x="2066760" y="4448160"/>
            <a:ext cx="5172120" cy="714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8"/>
          <p:cNvSpPr/>
          <p:nvPr/>
        </p:nvSpPr>
        <p:spPr>
          <a:xfrm>
            <a:off x="3067200" y="3914640"/>
            <a:ext cx="6076800" cy="178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000240" y="4438800"/>
            <a:ext cx="5848560" cy="11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895040" y="2081160"/>
            <a:ext cx="724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urriculum-Base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emplates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Toolb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85800" y="14335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llows teachers and students to produce </a:t>
            </a:r>
            <a:r>
              <a:rPr b="0" lang="en-CA" sz="4800" spc="-1" strike="noStrike">
                <a:solidFill>
                  <a:srgbClr val="ff0000"/>
                </a:solidFill>
                <a:latin typeface="Arial"/>
              </a:rPr>
              <a:t>high-quality work 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ith e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Getting to your destination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P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a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know where you want to go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sort of know how to get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arning Essentials will take you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more often you take the route, the more comfortable you’ll become getting ther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You will be guided along the wa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The destination will be better than you had imagined!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66"/>
                </a:solidFill>
                <a:latin typeface="Tahoma"/>
              </a:rPr>
              <a:t>Target Us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38440"/>
            <a:ext cx="72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Edu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Educato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6666"/>
                </a:solidFill>
                <a:latin typeface="Arial"/>
              </a:rPr>
              <a:t>Learning Essentials for Student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3:39:25Z</dcterms:created>
  <dc:creator/>
  <dc:description/>
  <dc:language>en-US</dc:language>
  <cp:lastModifiedBy/>
  <dcterms:modified xsi:type="dcterms:W3CDTF">2008-10-02T18:24:20Z</dcterms:modified>
  <cp:revision>1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Mode">
    <vt:lpwstr>teacher</vt:lpwstr>
  </property>
  <property fmtid="{D5CDD505-2E9C-101B-9397-08002B2CF9AE}" pid="3" name="_TemplateID">
    <vt:lpwstr>TC011589511033</vt:lpwstr>
  </property>
</Properties>
</file>