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F755-F201-43A0-BF77-E1A327C6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832B-2E8E-45F8-A9E0-2D1C46FE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A8F5-2526-4687-8F13-2AA005DB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E89F-2021-484B-ACD6-7E5FDB6F8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1274-9CE9-43FA-84E2-831FB77E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F1CC-2E33-4789-AE87-E8BEE991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FD69-95C7-439B-A1C8-F26EAAC9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EA7F-2C0F-40F2-9362-01084323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6E38-5F44-4B83-81A7-462A02F5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0BEF-9DAC-40D3-B344-6D7583A9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F996-B658-4607-9031-1D02668C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76DF-15AB-441A-A61B-BA635986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Swis721 Ex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Swis721 Ex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Swis721 Ex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498C-307C-4455-AD86-F920B67330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77280" y="5257800"/>
            <a:ext cx="666720" cy="1600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228600" y="6172200"/>
            <a:ext cx="180972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hsoct18.wikispaces.com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dogswithblogs.com.au/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bteacher.wikispaces.com/" TargetMode="External"/><Relationship Id="rId2" Type="http://schemas.openxmlformats.org/officeDocument/2006/relationships/hyperlink" Target="http://nbteacher.wikispaces.com/" TargetMode="External"/><Relationship Id="rId3" Type="http://schemas.openxmlformats.org/officeDocument/2006/relationships/hyperlink" Target="http://rothmir45.wikispaces.com/" TargetMode="External"/><Relationship Id="rId4" Type="http://schemas.openxmlformats.org/officeDocument/2006/relationships/hyperlink" Target="http://rothmir45.wikispaces.com/" TargetMode="External"/><Relationship Id="rId5" Type="http://schemas.openxmlformats.org/officeDocument/2006/relationships/hyperlink" Target="http://rothmir45.wikispaces.com/" TargetMode="External"/><Relationship Id="rId6" Type="http://schemas.openxmlformats.org/officeDocument/2006/relationships/hyperlink" Target="http://mstilwell.wikispaces.com/" TargetMode="External"/><Relationship Id="rId7" Type="http://schemas.openxmlformats.org/officeDocument/2006/relationships/hyperlink" Target="http://wikipedia.org/" TargetMode="Externa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Wikis and Blogs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Allen Steeves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NB Department of Education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Setting Up Your Space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Theme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Colours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Logo (150 x 150)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Invite your friends to your wiki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I’ll type the space names here …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Space Permissions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You can change the space permissions anytime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Public (everyone can view and edit your pages)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Protected (everone can view but only members can edit the pages)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Private (Only members of the space and view and edit the pages) $5/month except for teachers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Discussion Permissions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Decide if you want non-members to comment on your page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Invite New Members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Invite your friends either by typing in thei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Swis721 Ex BT"/>
              </a:rPr>
              <a:t>username</a:t>
            </a: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 or thei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Swis721 Ex BT"/>
              </a:rPr>
              <a:t>email address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Adding Students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We won’t do this now but it’s a lot EASIER to create the spaces for students rather than get them to create their own.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Usually we apply usernames such as “RHSBrianS”, “RHSMichelleH”, “RHSCarolB2”, and so on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We create the passwords usually by asking the students to submit one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It’s a little bit of work but a lot less frustrating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Now For Your Own Wiki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It’s time to add information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How do you add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links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images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new pages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editing the navigation panel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A Collaborative Site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Request access to :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Swis721 Ex BT"/>
                <a:hlinkClick r:id="rId1"/>
              </a:rPr>
              <a:t>rhsoct18.wikispaces.com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We will all be able to view and edit pages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This is not something you would want to do with a class simultaneously… it’s more effective for long-term projects. 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You are notified when somebody else is modifying the page. 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While We’re Here… Blogs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A blog is more of a journal… a place to add commentary and notes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It can be used somewhat like a wiki but it’s more user driven… 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Some examples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blogger.com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vibejournal.com (I like this one for schools)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Swis721 Ex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wis721 Ex BT"/>
              </a:rPr>
              <a:t>Hampton Middle : vibejournal.com/hms</a:t>
            </a:r>
            <a:endParaRPr b="0" lang="en-US" sz="2000" spc="-1" strike="noStrike">
              <a:solidFill>
                <a:srgbClr val="ffffff"/>
              </a:solidFill>
              <a:latin typeface="Swis721 Ex BT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Swis721 Ex BT"/>
                <a:hlinkClick r:id="rId1"/>
              </a:rPr>
              <a:t>www.dogswithblogs.com.au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Back To Wikis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Reverting to previous page versions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Comparing the differences between different versions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The largest file you can upload is 10MB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but you can store a lot more than that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Embedding Media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Add YouTube videos to your wiki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What Is A Wiki?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Wiki means “hurry quick” in Hawaiia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With a wiki you can creat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Swis721 Ex BT"/>
              </a:rPr>
              <a:t>simple web pages</a:t>
            </a: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 that groups, friends and families can edit and work on together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Time To Play… Questions?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What Can I Use a Wiki For?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Great for any kind of website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It’s for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families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classrooms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sports teams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community groups 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you name it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Like What?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Students at RES are collaborating with students at other schools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The science teachers at Kennebecasis Valley High School created a wiki to develop their PLC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Mary Stilwell at KVHS created a wiki for her students to access and add their work to 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Examples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Swis721 Ex BT"/>
                <a:hlinkClick r:id="rId1"/>
              </a:rPr>
              <a:t>My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Swis721 Ex BT"/>
                <a:hlinkClick r:id="rId2"/>
              </a:rPr>
              <a:t>Wikispace</a:t>
            </a: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 (I use it for demonstrating wikis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Swis721 Ex BT"/>
                <a:hlinkClick r:id="rId3"/>
              </a:rPr>
              <a:t>RES and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Swis721 Ex BT"/>
                <a:hlinkClick r:id="rId4"/>
              </a:rPr>
              <a:t>Miramichi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Swis721 Ex BT"/>
                <a:hlinkClick r:id="rId5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Grade 4/5 wiki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Swis721 Ex BT"/>
                <a:hlinkClick r:id="rId6"/>
              </a:rPr>
              <a:t>Mary Stilwell’s </a:t>
            </a: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Grade 9 English Wiki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Swis721 Ex BT"/>
                <a:hlinkClick r:id="rId7"/>
              </a:rPr>
              <a:t>Wikipedia</a:t>
            </a: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… the most famous wiki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It’s This Easy!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Wikispaces is the wiki that most teachers are using because :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it’s free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it’s easy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there are no advertisements or banners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you can make it private or public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you can embed audio and video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you can give it ‘your’ look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the owners of the site help teachers themselves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Wikispaces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wikispaces.com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scroll to the bottom of the page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select K-12 Teacher? Find out more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Fill in the required information and select “Private” for the space visibility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Step 1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Set up your account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Join my space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nbteacher.wikispaces.com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Watch how I receive the request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Step 2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1T13:49:32Z</dcterms:created>
  <dc:creator>nshastry</dc:creator>
  <dc:description/>
  <dc:language>en-US</dc:language>
  <cp:lastModifiedBy>nbdoe</cp:lastModifiedBy>
  <dcterms:modified xsi:type="dcterms:W3CDTF">2007-10-18T17:56:44Z</dcterms:modified>
  <cp:revision>6</cp:revision>
  <dc:subject/>
  <dc:title>Animated Blue Line</dc:title>
</cp:coreProperties>
</file>