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7A4-532C-42C9-AFA8-E7154534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292-DFEC-4CEE-B62A-24A5E98C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0A6-6652-4747-8570-855FA31A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CC7-F96C-4444-9827-9AC0B27A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44A-EFDB-447B-97CA-000A673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407-5731-46CC-9676-28BF5C8E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1C1-04D1-47A6-B54E-2C71F284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9E8-B7D6-4814-8F9A-B97B82B7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8C2-E117-4CB9-8F18-B52716B9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383-C6CB-43C4-B844-6E0EF1D5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9CB-B6FA-4AFC-93AE-B6CCBCA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789-4C98-46F8-BC39-46E4370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053-96F0-4523-AD18-BC79CE50E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77280" y="5257800"/>
            <a:ext cx="66672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hsoct18.wikispac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gswithblogs.com.a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bteacher.wikispaces.com/" TargetMode="External"/><Relationship Id="rId2" Type="http://schemas.openxmlformats.org/officeDocument/2006/relationships/hyperlink" Target="http://nbteacher.wikispaces.com/" TargetMode="External"/><Relationship Id="rId3" Type="http://schemas.openxmlformats.org/officeDocument/2006/relationships/hyperlink" Target="http://rothmir45.wikispaces.com/" TargetMode="External"/><Relationship Id="rId4" Type="http://schemas.openxmlformats.org/officeDocument/2006/relationships/hyperlink" Target="http://rothmir45.wikispaces.com/" TargetMode="External"/><Relationship Id="rId5" Type="http://schemas.openxmlformats.org/officeDocument/2006/relationships/hyperlink" Target="http://rothmir45.wikispaces.com/" TargetMode="External"/><Relationship Id="rId6" Type="http://schemas.openxmlformats.org/officeDocument/2006/relationships/hyperlink" Target="http://mstilwell.wikispaces.com/" TargetMode="External"/><Relationship Id="rId7" Type="http://schemas.openxmlformats.org/officeDocument/2006/relationships/hyperlink" Target="http://wikipedia.org/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 and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llen Steev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NB Department of Educ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etting Up Your Spac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Logo (150 x 150)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’ll type the space names here …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pace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can change the space permissions anyti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ublic (everyone can view and edit your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otected (everone can view but only members can edit the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ivate (Only members of the space and view and edit the pages) $5/month except for teach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Discussion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Decide if you want non-members to comment on your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nvite New Member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either by typing in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usernam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or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email addres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dding Student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on’t do this now but it’s a lot EASIER to create the spaces for students rather than get them to create their own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Usually we apply usernames such as “RHSBrianS”, “RHSMichelleH”, “RHSCarolB2”, and so 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create the passwords usually by asking the students to submit on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a little bit of work but a lot less frustrating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Now For Your Own Wiki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time to add inform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How do you add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ew p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editing the navigation panel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 Collaborative Sit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quest access to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rhsoct18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ill all be able to view and edit pag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s is not something you would want to do with a class simultaneously… it’s more effective for long-term projects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are notified when somebody else is modifying the page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ile We’re Here…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 blog is more of a journal… a place to add commentary and not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 can be used somewhat like a wiki but it’s more user driven…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ome exampl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logger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vibejournal.com (I like this one for school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721 Ex BT"/>
              </a:rPr>
              <a:t>Hampton Middle : vibejournal.com/hms</a:t>
            </a:r>
            <a:endParaRPr b="0" lang="en-US" sz="20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www.dogswithblogs.com.au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Back To Wiki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verting to previous page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mparing the differences between different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largest file you can upload is 10MB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ut you can store a lot more than tha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mbedding Media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dd YouTube video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Is A Wiki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 means “hurry quick” in Hawaiia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th a wiki you can cre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simple web pages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that groups, friends and families can edit and work on togethe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Time To Play… Questions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Can I Use a Wiki For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eat for any kind of websit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fo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lassroo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sports tea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ommunity groups 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name i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Like What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tudents at RES are collaborating with students at other school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science teachers at Kennebecasis Valley High School created a wiki to develop their PLC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Mary Stilwell at KVHS created a wiki for her students to access and add their work to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My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2"/>
              </a:rPr>
              <a:t>Wikispac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(I use it for demonstrating wiki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3"/>
              </a:rPr>
              <a:t>RES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4"/>
              </a:rPr>
              <a:t>Miramichi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5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4/5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6"/>
              </a:rPr>
              <a:t>Mary Stilwell’s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9 English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7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… the most famous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t’s This Easy!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 is the wiki that most teachers are using because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free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easy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re are no advertisements or bann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make it private or public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embed audio and video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give it ‘your’ look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 owners of the site help teachers themselv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pac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.com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croll to the bottom of the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lect K-12 Teacher? Find out mor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ll in the required information and select “Private” for the space visibility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1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t up your accoun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Join my spac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bteacher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atch how I receive the reques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2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3:49:32Z</dcterms:created>
  <dc:creator>nshastry</dc:creator>
  <dc:description/>
  <dc:language>en-US</dc:language>
  <cp:lastModifiedBy>nbdoe</cp:lastModifiedBy>
  <dcterms:modified xsi:type="dcterms:W3CDTF">2007-10-18T17:56:44Z</dcterms:modified>
  <cp:revision>6</cp:revision>
  <dc:subject/>
  <dc:title>Animated Blue Line</dc:title>
</cp:coreProperties>
</file>