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8616-CC3B-469B-A989-C351C993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29BD-7951-4FE0-A129-4982B745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5360-51E9-4B50-8DD2-763B135D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0F6-6ECB-41D7-B73D-F90AEDD7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E9C7-77AF-4972-81D5-1E520001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632E-4180-4B67-9A6A-8A6CB7E2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CA7-5943-43D6-B66B-D12292AA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02D4-DE8D-46C0-8916-A2583084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9CB9-74F1-48B5-8D43-93B1DDF9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D350-76FD-41C6-AA10-F5C85D9A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687-7B49-462C-B720-97193C23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05EF-C9D0-40E3-8284-E13E0CF9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Swis721 Ex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F3EE-B4D1-411C-839F-9671E2D7C1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77280" y="5257800"/>
            <a:ext cx="666720" cy="1600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28600" y="6172200"/>
            <a:ext cx="180972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hsoct18.wikispaces.com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dogswithblogs.com.au/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bteacher.wikispaces.com/" TargetMode="External"/><Relationship Id="rId2" Type="http://schemas.openxmlformats.org/officeDocument/2006/relationships/hyperlink" Target="http://nbteacher.wikispaces.com/" TargetMode="External"/><Relationship Id="rId3" Type="http://schemas.openxmlformats.org/officeDocument/2006/relationships/hyperlink" Target="http://rothmir45.wikispaces.com/" TargetMode="External"/><Relationship Id="rId4" Type="http://schemas.openxmlformats.org/officeDocument/2006/relationships/hyperlink" Target="http://rothmir45.wikispaces.com/" TargetMode="External"/><Relationship Id="rId5" Type="http://schemas.openxmlformats.org/officeDocument/2006/relationships/hyperlink" Target="http://rothmir45.wikispaces.com/" TargetMode="External"/><Relationship Id="rId6" Type="http://schemas.openxmlformats.org/officeDocument/2006/relationships/hyperlink" Target="http://mstilwell.wikispaces.com/" TargetMode="External"/><Relationship Id="rId7" Type="http://schemas.openxmlformats.org/officeDocument/2006/relationships/hyperlink" Target="http://wikipedia.org/" TargetMode="Externa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Wikis and Blog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Allen Steeve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NB Department of Education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Setting Up Your Space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Them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Colour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Logo (150 x 150)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Invite your friends to your wiki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I’ll type the space names here …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Space Permission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You can change the space permissions anytim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Public (everyone can view and edit your pages)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Protected (everone can view but only members can edit the pages)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Private (Only members of the space and view and edit the pages) $5/month except for teacher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Discussion Permission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Decide if you want non-members to comment on your pag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Invite New Member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Invite your friends either by typing in thei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wis721 Ex BT"/>
              </a:rPr>
              <a:t>username</a:t>
            </a: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or thei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wis721 Ex BT"/>
              </a:rPr>
              <a:t>email addres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Adding Student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e won’t do this now but it’s a lot EASIER to create the spaces for students rather than get them to create their own.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Usually we apply usernames such as “RHSBrianS”, “RHSMichelleH”, “RHSCarolB2”, and so on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e create the passwords usually by asking the students to submit on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It’s a little bit of work but a lot less frustrating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Now For Your Own Wiki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It’s time to add information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How do you add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link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image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new page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editing the navigation panel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A Collaborative Site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Request access to :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Swis721 Ex BT"/>
                <a:hlinkClick r:id="rId1"/>
              </a:rPr>
              <a:t>rhsoct18.wikispaces.com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e will all be able to view and edit page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This is not something you would want to do with a class simultaneously… it’s more effective for long-term projects.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You are notified when somebody else is modifying the page.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While We’re Here… Blog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A blog is more of a journal… a place to add commentary and note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It can be used somewhat like a wiki but it’s more user driven…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ome example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blogger.com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vibejournal.com (I like this one for schools)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Swis721 Ex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wis721 Ex BT"/>
              </a:rPr>
              <a:t>Hampton Middle : vibejournal.com/hms</a:t>
            </a:r>
            <a:endParaRPr b="0" lang="en-US" sz="2000" spc="-1" strike="noStrike">
              <a:solidFill>
                <a:srgbClr val="ffffff"/>
              </a:solidFill>
              <a:latin typeface="Swis721 Ex BT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Swis721 Ex BT"/>
                <a:hlinkClick r:id="rId1"/>
              </a:rPr>
              <a:t>www.dogswithblogs.com.au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Back To Wiki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Reverting to previous page version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Comparing the differences between different version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The largest file you can upload is 10MB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but you can store a lot more than that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Embedding Media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Add YouTube videos to your wiki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What Is A Wiki?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iki means “hurry quick” in Hawaiia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ith a wiki you can creat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wis721 Ex BT"/>
              </a:rPr>
              <a:t>simple web pages</a:t>
            </a: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that groups, friends and families can edit and work on together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Time To Play… Questions?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What Can I Use a Wiki For?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Great for any kind of websit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It’s for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familie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classroom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sports team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community groups 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you name it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Like What?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tudents at RES are collaborating with students at other schools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The science teachers at Kennebecasis Valley High School created a wiki to develop their PLC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Mary Stilwell at KVHS created a wiki for her students to access and add their work to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Example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1"/>
              </a:rPr>
              <a:t>My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2"/>
              </a:rPr>
              <a:t>Wikispace</a:t>
            </a: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(I use it for demonstrating wikis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3"/>
              </a:rPr>
              <a:t>RES and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4"/>
              </a:rPr>
              <a:t>Miramichi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5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Grade 4/5 wik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6"/>
              </a:rPr>
              <a:t>Mary Stilwell’s </a:t>
            </a: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Grade 9 English Wiki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Swis721 Ex BT"/>
                <a:hlinkClick r:id="rId7"/>
              </a:rPr>
              <a:t>Wikipedia</a:t>
            </a: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… the most famous wiki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It’s This Easy!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ikispaces is the wiki that most teachers are using because :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it’s free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it’s easy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there are no advertisements or banner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you can make it private or public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you can embed audio and video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you can give it ‘your’ look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the owners of the site help teachers themselves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Wikispaces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ikispaces.com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croll to the bottom of the pag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elect K-12 Teacher? Find out mor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Fill in the required information and select “Private” for the space visibility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Step 1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Set up your account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Join my space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Swis721 Ex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wis721 Ex BT"/>
              </a:rPr>
              <a:t>nbteacher.wikispaces.com</a:t>
            </a:r>
            <a:endParaRPr b="0" lang="en-US" sz="2400" spc="-1" strike="noStrike">
              <a:solidFill>
                <a:srgbClr val="ffffff"/>
              </a:solidFill>
              <a:latin typeface="Swis721 Ex BT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wis721 Ex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721 Ex BT"/>
              </a:rPr>
              <a:t>Watch how I receive the request</a:t>
            </a: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wis721 Ex BT"/>
              </a:rPr>
              <a:t>Step 2</a:t>
            </a:r>
            <a:endParaRPr b="0" lang="en-US" sz="4000" spc="-1" strike="noStrike">
              <a:solidFill>
                <a:srgbClr val="ffffff"/>
              </a:solidFill>
              <a:latin typeface="Swis721 Ex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wis721 Ex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13:49:32Z</dcterms:created>
  <dc:creator>nshastry</dc:creator>
  <dc:description/>
  <dc:language>en-US</dc:language>
  <cp:lastModifiedBy>nbdoe</cp:lastModifiedBy>
  <dcterms:modified xsi:type="dcterms:W3CDTF">2007-10-18T17:56:44Z</dcterms:modified>
  <cp:revision>6</cp:revision>
  <dc:subject/>
  <dc:title>Animated Blue Line</dc:title>
</cp:coreProperties>
</file>